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1D4C-33A9-4D16-A8D6-487C8859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C409-36CA-49F1-86A4-7B5CD537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BA76-0590-4D94-BF84-BD8EDCAC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96FC-74EB-4EAE-9E61-B83F58AD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ACEA-54AD-4CCD-B351-F6D1A34B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D630-6223-499A-8983-9CDCB03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9FA1-4092-4C76-8BEE-83F136D5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47E9-FE35-48EB-80E5-43706D5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7EBC-EF07-49D9-B31E-FAB9E178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A50C-C46B-4A98-B159-06EE604C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4C60-13F8-4C8D-8800-6EFB73F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80BF-D3C9-4C21-9CC3-463A6DC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DF05-240A-41B1-AE96-07E9E75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0A3C-7501-42A3-BE38-DBD72F99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09ED-8DB5-4AA1-87F8-8A57396C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B37E-25FF-4A23-A096-F39F1C8C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A17C-11FF-43BD-A988-2900D5EF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9076-9BF6-4B2B-8DCE-750D3BE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CB0A-90DD-4277-8B26-51EDDEC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C57E-2FB4-47C8-BD6F-BFC973F9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FFF7-A9EE-43DC-B25D-6C5BD92B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497A-EAC0-4804-8FF4-2550E07A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ED95-A99B-4E10-9634-2738B4F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9E5E-A657-4D8D-ABB1-E1BE5F23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D9D-1A92-4E80-A28E-D7447C42B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45FA-BB4E-49B8-9C31-7E507CD07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henewyorktimes.com/" TargetMode="External"/><Relationship Id="rId2" Type="http://schemas.openxmlformats.org/officeDocument/2006/relationships/hyperlink" Target="http://thenewyorktimes.com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ytimes.com/" TargetMode="External"/><Relationship Id="rId2" Type="http://schemas.openxmlformats.org/officeDocument/2006/relationships/hyperlink" Target="http://www.nytim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lang="en-US" sz="3300" spc="-1" strike="noStrike">
                <a:solidFill>
                  <a:srgbClr val="33cccc"/>
                </a:solidFill>
                <a:latin typeface="Arial"/>
              </a:rPr>
              <a:t>Selecting an Effective Bilingual Instructional Mode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Ashley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Education 7201: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Fall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124080" y="182880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e5e5"/>
                  </a:solidFill>
                  <a:miter/>
                </a:ln>
                <a:solidFill>
                  <a:srgbClr val="ff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Closing the Literacy</a:t>
            </a:r>
            <a:endParaRPr b="0" lang="en-US" sz="1800" spc="1" strike="noStrike">
              <a:ln w="15840">
                <a:solidFill>
                  <a:srgbClr val="00e5e5"/>
                </a:solidFill>
                <a:miter/>
              </a:ln>
              <a:solidFill>
                <a:srgbClr val="ff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e5e5"/>
                  </a:solidFill>
                  <a:miter/>
                </a:ln>
                <a:solidFill>
                  <a:srgbClr val="ff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Gap for ELLs</a:t>
            </a:r>
            <a:endParaRPr b="0" lang="en-US" sz="1800" spc="1" strike="noStrike">
              <a:ln w="15840">
                <a:solidFill>
                  <a:srgbClr val="00e5e5"/>
                </a:solidFill>
                <a:miter/>
              </a:ln>
              <a:solidFill>
                <a:srgbClr val="ff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Bilingual Education Theor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Jim Cummins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Bilingualism and special education: Programs and pedagogical issues (198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udents must receive sufficient comprehensible input in the 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arget languag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maintaining ties to the native langua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felia Gar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Logisitical concerns - vary by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Teacher preparation, entrance and exit criteria, parental involvement, curriculu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81440" cy="107820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Statement of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¹: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 of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bilingua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small-group literacy instruction in English Classroom over an eight-week period will increase L2 proficiency of Spanish-speaking ELLs in the dual-language program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(ECLAS-2, Fountas &amp; Pinnell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²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lingual small-group literacy instruction in English Classroom A will yield a greater literacy improvement for students compared to those instructed in English Classroom 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666800" cy="1154160"/>
          </a:xfrm>
          <a:prstGeom prst="rect">
            <a:avLst/>
          </a:prstGeom>
          <a:ln w="2844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39680" y="456840"/>
            <a:ext cx="76471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o, M.S., August, D., McLaughlin, B., Snow, C. E., Dressler, C., Lippman, D., . . . White, C. E. (2004).  Closing the gap: Addressing the vocabulary needs of English language learners in bilingual and mainstream classrooms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Research Quarterly, 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188-2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bs, M. C., Evans, C., Fletcher, T., Parra, E., &amp; Jim</a:t>
            </a:r>
            <a:r>
              <a:rPr b="0" lang="fr-FR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z, A. (2005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ingualism for the children :  Implementing a dual-language program in an English-only state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ucational Policy, 19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1-727.  doi:  10.1177/089590480527806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atta, B., Reese, M., &amp; Setzer, L. (2006).  Early literacy instruction in a dual-language (Spanish-English) kindergarten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mmunication Disorders Quarterly,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67-82.   doi:  10.1177/1525740106027002051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mins, J. (1983).  Bilingualism and special education: Programs and pedagogical issue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arning Disability Quarterly,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Autumn, 373-3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an, L, Roseth, C. J., &amp; Hoffman, P.  (2010).  An experimental study comparing English-only and transitional bilingual education on Spanish-speaking preschoolers’ early literacy development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arly Childhood Research Quarterly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207-217.  doi: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0.1016/j.ecresq.2009.10.00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man, R. (2000).  Contextual challenges to dual-language education: A case study of a developing middle school program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thropology &amp; Education Quarterly, 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202-229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cia, E. (2007).  Education comes in diverse shapes and forms for U.S. bilinguals. In J, Noel, (Ed.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ulticultural Education, 2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e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8-144.  New York: McGraw Hill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cia, O. (2008).  Bilingual education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.  West Sussex, United Kingdom:  Wiley-Blackwell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cia, O. (2005).  Positioning heritage languages in the United States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Modern Language Journal, 8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601-605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msley, G., Holm, A., &amp; Dodd, B. (2006).  Diverse but not different:  The lexical skills of two primary age bilingual groups in comparison to monolingual peer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ational Journal of Bilingualism,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. 453-476. doi:  10.1177/1367006906010004040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ay, L. (2000, October 17).  Immersion promoted as alternative to bilingual instruction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ew York Tim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Retrieved from 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thenewyorktimes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berger, N. H. (1998).  Language policy, language education, language rights:  Indigenous, immigrant and international perspectives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anguage in Society,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439-458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son, D. C. (2010).   The relationship between applied linguistic research and language policy for bilingual education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pplied Linguistics, 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72-9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, J., &amp; Schallert, D. L. (1997).  The relative contribution of L2 language proficiency and L1 reading ability to L2 reading performance: A test of the threshold hypothesis in an EFL context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SOL Quarterly, 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713-739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ng, C. B., Silverman, R., Nandakumar, R., Qian, X., &amp; Hines, S. (2010).  A comparison of difficulty levels of vocabulary in first grade basal readers for preschool dual language learners and monolingual English learners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American Education Research Journal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:  10.3102/0002831210382890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er, D. (2010).  Race, power, and equity in a multiethnic urban elementary school with a dual-languag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thropology and Education Quaterly,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94-1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owski, K. (2004). Student Spanish use and investment in a dual language immersion classroom: Implications for second language acquisition and heritage language maintenance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Modern Language Journal, 8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-1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ada, P. (2007).  A comparative study of the writing achievement of fourth grade English language learners in a dual-language bilingual program and a transitional bilingual program in the lower Rio Grande Valley (Texas)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sertation Abstracts International Section A:  Humanities and Social Sciences, 6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-A), 13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vitch, D. (1997,  September 5).  First teach them English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ew York Tim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ieved from: 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www.nytim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sell, C. (2002).  Dismantling bilingual education implementing English immersion: The California initiative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ublic Policy Inst. of California, San Francisc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ERIC Document Reproduction  Service No. ED467063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sell, C. &amp; Baker, K. (1996).  The educational effectiveness of bilingual education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earch in the Teaching of English,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 7-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in, E., &amp; Cheung, A. (2005).   A synthesis of research on language of reading instruction for English language learners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view of Educational Research,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.  Summer, 247-284.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doi: 10.3102/0034654307500224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ng, V., Lara-Alecio, R., Irby, B., Mathes, P., &amp; Kwok, O. M. (2008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ng early academia oral English development in transitional bilingual and structure English immersion program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Journal, 4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1011-1044.       doi:  10.3102/0002831208320790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ugh, S., Linan-Thompson, S., Mathes, P. G., Cirino, P. T., Carlson, C. D., Pollard-Durodola, S. D., . . . Francis, D. J. (2006).  Effectiveness of Spanish intervention for first-grade English language learners at risk for reading difficultie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Learning Disabilities, 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56-73.  doi:  10.1177/0022219406039001060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insler, A., Diaz, R., Espinoza, L., Rodriguez, J. (1999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earning a second language does not mean losing the first: Bilingual language development in low-income, Spanish-speaking children attending bilingual preschool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ild Development, 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. 349-3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00cc"/>
                </a:solidFill>
                <a:latin typeface="Arial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view of Related Literature:</a:t>
            </a:r>
            <a:r>
              <a:rPr b="0" lang="en-US" sz="25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s  4, 5, 6, 7, 8, 9,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Hypo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Slides 12 &amp;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14600" cy="2344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77120" y="403848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¡Hola!  Hel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Statement of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 instruct first-grade ELLs at PSX, the school has implemented a side-by-side dual-language setting that separates L1 and L2 literacy development by classroom. For Spanish-speaking students (L1), English proficiency (L2) is below expected levels according to ECLAS-2 results and Fountas &amp; Pinnell reading leve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What’s the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30640"/>
          </a:xfrm>
          <a:prstGeom prst="rect">
            <a:avLst/>
          </a:prstGeom>
          <a:ln w="50760">
            <a:solidFill>
              <a:srgbClr val="33cccc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39640" y="156060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Reversing the Bilingual Education Act (1968) with NC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Native Languag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Research confirms significance of native language maintenance as </a:t>
            </a:r>
            <a:r>
              <a:rPr b="0" lang="en-US" sz="3600" spc="-1" strike="noStrike">
                <a:solidFill>
                  <a:srgbClr val="ff6699"/>
                </a:solidFill>
                <a:latin typeface="Times New Roman"/>
              </a:rPr>
              <a:t>predictor of future L2 proficiency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as well as a powerful tool to assist in the </a:t>
            </a:r>
            <a:r>
              <a:rPr b="0" lang="en-US" sz="3600" spc="-1" strike="noStrike">
                <a:solidFill>
                  <a:srgbClr val="ff6699"/>
                </a:solidFill>
                <a:latin typeface="Times New Roman"/>
              </a:rPr>
              <a:t>transfer of literacy knowledge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from one language to the next.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(Carlo et al., 2004; Culatta, Reese &amp; Setzer, 2006; Lee &amp; Schallert, 1997; Potowski, 2004; Quesada, 2007; Vaughn et al., 2006).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Native Languag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Literacy skills that are significant predictors of later reading success and response to instruction are similar for English and Spanish, and include skills for phonological processin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   (Lee &amp; Schallert, 2006; Vaughn et al., 2006)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exas ELA test scores higher for ELLs in bilingual models than immersion model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   (Quesada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English Immersion Programs</a:t>
            </a:r>
            <a:br>
              <a:rPr sz="4000"/>
            </a:b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2 replaces L1; No native 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굴림"/>
              </a:rPr>
              <a:t>Research confirms English-only immersion models as most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  <a:ea typeface="굴림"/>
              </a:rPr>
              <a:t>(Garcia, E., 2007; Helmsley, Holm &amp; Dodd, 2006; Leung et al., 2010; Rossell &amp; Baker, 1996; Winsler et al., 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Arial"/>
                <a:ea typeface="굴림"/>
              </a:rPr>
              <a:t>States with recent policy changes:  California, Arizona, Georgia, and Massachuset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English Immersion Programs</a:t>
            </a:r>
            <a:br>
              <a:rPr sz="4000"/>
            </a:b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2 replaces L1; No native 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ynthesis of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0 studies were examined to analyze and quantify effectiveness of bilingual education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Just 22% of studies suggested bilingual education model effectiveness over immersion mode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Rossell &amp; Baker, 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Additional Synthesis of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ynthesis conducted recently; findings were reve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ilingual instructional models favored over those that eliminated native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7 studies, mostly Spanish-speaking, and covered a wide variety of bilingual models (Transitional, Two-Way, Dual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Slavin &amp; Cheung, 200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llustrates the need for further research to reach conclusions as to effectiveness of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42:33Z</dcterms:created>
  <dc:creator>Bill Ramakkan</dc:creator>
  <dc:description/>
  <dc:language>en-US</dc:language>
  <cp:lastModifiedBy> </cp:lastModifiedBy>
  <dcterms:modified xsi:type="dcterms:W3CDTF">2010-11-30T13:32:47Z</dcterms:modified>
  <cp:revision>29</cp:revision>
  <dc:subject/>
  <dc:title>Helping Our ELL Students Succeed: Finding the Right Setting</dc:title>
</cp:coreProperties>
</file>